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5C6-C87A-4444-826D-3103C11D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43A-C4A4-44FD-832C-640ED61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B80-948C-4EF6-AE69-445E23E3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B7B-49AF-4AB7-B546-4C00084E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01C-BBF7-4A6F-9A9A-30F001E1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F49-0699-48CE-B44E-19C9F85C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9A8-63D0-4B05-B621-8D070AC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B90-8E29-4B37-A32E-DD04364D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D01-0FCF-4DDB-990E-541BCDA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AD7-3723-4C9F-9A17-360C8EF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B07-8DAC-4B98-80C3-562D256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41D-38B3-4107-8FF9-CBC6987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5D11-4264-42C7-814A-FEA72CE4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loyee Training and Developmen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Do th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ployees Learn 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 Job Training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coming Obstacles to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43512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E7B-554E-492E-83CD-DD89908CC7DA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oving from Plan to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people with some experience begins with a pre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 out the training program with employees who do not meet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training process is complete EVALU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034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35F-14BB-4ACC-B464-1B48C5477529}" type="slidenum">
              <a:t>10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l eval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s observation, interviews, and surveys to monitor training while its going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tive eval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asures results when training is complete in five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6FD-7FD2-479B-99EE-6893DE537308}" type="slidenum">
              <a:t>11</a:t>
            </a:fld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Job Instruction Training (JI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590560" cy="3233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on the job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4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 the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onstrate th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the worker do th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 th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ut the worker on the job, correcting and supporting as nessic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AF7-E5F3-4BFF-A963-C884E3125F7F}" type="slidenum">
              <a:t>12</a:t>
            </a:fld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assroom Train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appropriate body language and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how you talk to employees. Covey respect and appre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problem behaviors in an effective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ime wa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employee participation and discu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visual aids to avoid constantly referring to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282096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0D7-4870-426E-BF7A-7A51AFE212E5}" type="slidenum">
              <a:t>13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10666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when changes are made that affect the job, employees performance drops below par, or when the worker has not mastered a particular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sitive one-on-one approach to retraining is referred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two part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Observation of the employe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onversation between manager and employee focusing on job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4940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841-10D0-4C8C-B1E9-8E3AA05868EC}" type="slidenum">
              <a:t>14</a:t>
            </a:fld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ientatio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-job phase of trai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each new employee to the job and the work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s new staff members what they want to know and what the company wants them to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s information give out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hand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positive employee attitudes toward the company and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5370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64-0F33-458C-A341-731613350355}" type="slidenum">
              <a:t>15</a:t>
            </a:fld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vercoming Obstacles to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52320" y="990720"/>
            <a:ext cx="5791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duce f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ositive approach (convey confidence in the work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mo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mphasize whatever is of value to the learner, make the program form a series of small successes, build in incentives and rew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abilities: adjust teaching to learners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ziness, indifference, resistance: May mean a problem wo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D2E-76A4-445A-8EFE-EC0FF24ED74A}" type="slidenum">
              <a:t>16</a:t>
            </a:fld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vercoming Obstacles to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4041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1280" y="12949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not adapted to learners: Deal with people as they are (teach people not tasks), keep it simple, involve all the s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training program: revise to include ob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instructor: The trainer needs to know the job, be a good communicator + leader, sensitive, patient, helpfu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1AC-F7D9-4342-9C4B-AB1D3BA008E7}" type="slidenum">
              <a:t>17</a:t>
            </a:fld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 of Training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aching people How to do Their Job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04812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00040" y="159984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hree kinds of training: Job Instruction, Retraining, and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g sister, big brother, 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ddy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hen a old hand shows a newcomer the ro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good training is absent there is likely to be an atmosphere of tension, crisis, and conflict because nobody knows what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BDD-7FBC-401F-B213-D86CF9947F41}" type="slidenum">
              <a:t>2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 Benefits of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441520" cy="4448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106632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time to manage, standardized performance, less absenteeism, less turnover, reduced tension, consistency, lower costs, more customers, bett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to do their jobs, reduces tension, boost morale and job satisfaction, reduces injuries and accidents, gives them a chance to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good image and more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4B6-8FA5-4CC6-B007-2A7A4DF08E01}" type="slidenum">
              <a:t>3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n why is training often neglec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ency of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urn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wo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of wo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s of jobs (simple-compl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knowing exactly what you want your people to do and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1672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8C1-5F0C-4D91-BBB8-FE7A242F6BCC}" type="slidenum">
              <a:t>4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will do the Train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9144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gic apro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ople train themselves the easiest ways to get the job done, and what will keep them from getting into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erson that is leaving tra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aches shortcuts and ways of breaking th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g sister, big brother, or buddy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asses on bad habits and may resent new person as a compet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gical person to train new workers is YOURSEF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20968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133-B677-4D34-ABBA-538B3DBCD116}" type="slidenum">
              <a:t>5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How do Employees Learn the Be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09880" cy="4012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cquisition of skills, knowledge, or at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learning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eld of research that examines how adults learn. A number of the following tips come from the adult leaning the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EC0-9856-47E9-A639-FB1F41A7AA1A}" type="slidenum">
              <a:t>6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 employees learn the bes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019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are actively involved in the learning process-(to do this choose a appropri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aching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s relevant and prac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material is organized and presented in chu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s in an informal, quiet, and comfortabl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have a good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receive feedback on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are rewar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5923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B27-E05E-4E9A-A41A-E41F000BA653}" type="slidenum">
              <a:t>7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a Job-Training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5562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plan: A detailed plan for carrying out employee training for a unit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st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ablish performance standards: they provide a ready made structure for a training pr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nd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e a training objective derived form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rd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standard procedures (list tasks and spell them ou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124440" cy="37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D38-8229-467C-A530-8D7698E38162}" type="slidenum">
              <a:t>8</a:t>
            </a:fld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a Unit Training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59056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8640" y="1066320"/>
            <a:ext cx="5715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aught in several 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provide check points to measure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include two elem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howing and telling the employee what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aving the employee do it (righ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should be qui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materials should be the same as used on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634-EBA9-4762-B2E2-484AC6E3078D}" type="slidenum">
              <a:t>9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9:08:45Z</dcterms:created>
  <dc:creator/>
  <dc:description/>
  <dc:language>en-US</dc:language>
  <cp:lastModifiedBy>user</cp:lastModifiedBy>
  <dcterms:modified xsi:type="dcterms:W3CDTF">2010-01-02T16:06:50Z</dcterms:modified>
  <cp:revision>0</cp:revision>
  <dc:subject/>
  <dc:title>Employee Training and Development</dc:title>
</cp:coreProperties>
</file>